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7BE-3A73-4D27-8744-B6FD02C6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2FC-EB79-4C64-A996-80B8DB25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849-FD20-49AC-A234-B0BF25D0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DF2-1DCA-4946-BF0C-F2C91898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A2E-3377-413F-960C-FF757B64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90F-FC92-49A8-BC99-C3558607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5F6-6856-4231-B954-FFD1C848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4BE-C91B-4DEA-B7A5-D7458A63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DE3-E95E-46E3-AE33-F7A9F42C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B5F-4E36-4ADF-87F2-BBB64BB6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911-8193-40B2-A24D-4B4F43A8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92E-2D30-4B49-885C-711EAABB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E0D3-07C9-46FD-96AB-3828D818A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371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440" y="13716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13716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412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3716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1148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0574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7432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41148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4290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057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0574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1148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4290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743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057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0574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440" y="20574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2057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34290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2743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440" y="27432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27432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7432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2743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34290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41148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4290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440" y="41148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440" y="34290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1148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4290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1148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41148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33520"/>
            <a:ext cx="3048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prév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33520"/>
            <a:ext cx="11415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440" y="533520"/>
            <a:ext cx="3811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à entrepren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8006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486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1722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800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54864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800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486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6172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4800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440" y="48006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4800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8006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8006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24680" y="5486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440" y="54864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5486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54864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54864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440" y="61722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6172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1371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ES AL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1371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91440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91440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914400"/>
            <a:ext cx="379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33520"/>
            <a:ext cx="380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533520"/>
            <a:ext cx="1141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440" y="914400"/>
            <a:ext cx="1830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é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914400"/>
            <a:ext cx="1981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3352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é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ss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6-08-03T09:25:16Z</dcterms:modified>
  <cp:revision>71</cp:revision>
  <dc:subject/>
  <dc:title>Contrôle interne des risques</dc:title>
</cp:coreProperties>
</file>